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C10-42C2-4BD0-83E6-0D37F2C6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06476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4CE-FB4A-407F-92DA-07DEFA9A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12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B0D-433F-440E-B510-43180CBB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8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2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8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2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EA2-C932-475E-8CA4-3DEA33CF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F0E8-5BA5-4D62-AF5B-EF7677F0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D304-04F6-4FC1-A9AE-148D5980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012F-1F2E-4F2F-987D-4F6198D9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537F-5BE2-459C-8547-46E6FE44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A663-55FE-4587-BAC1-49FD5D5C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80010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D937-8F61-4CE6-A075-1B991DB9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2257-A519-4AEE-B71D-FB966595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D2CF-813E-4929-A704-1AC00F1E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12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011F-38C2-4C2D-8630-BD72AF5D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F5B6-5E46-4126-8F30-2BE4789C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06476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D672-555C-4442-9FC4-6FF24272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12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71B0-675A-42C3-9C06-881DC405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8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62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8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62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4462-DFDF-44E3-9511-6E8A6964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F49-3F3A-45BA-A128-8C173CB7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82B-4240-46A1-B9B0-3C83B89E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462-DFB9-444B-B76A-AC8BD136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80010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55C-C97E-40A8-998D-AEB2181E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FEA-349C-4FC8-B21C-ACF536F8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12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685A-89FA-4AA2-A1B7-5930DE2E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1368-7A32-49C3-B0EF-987694AA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238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92A1-3C6D-4777-BB88-01727A7184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238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0298-7CA9-4EB1-AD6C-83F6B91C2B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55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FQ:  What are the classical civilizations of Greece and Rome?</a:t>
            </a:r>
            <a:br>
              <a:rPr sz="3600"/>
            </a:b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L86(RR6)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160" y="2209320"/>
            <a:ext cx="7010280" cy="40388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 Now:  Regents Review Questio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udaism, Islam, and Christianity share a belief i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.the central authority of the Pope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.a prohibition of the consumption of port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.reincarnation and the Four Noble Truths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4.monotheism and ethical conduc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Rome:  Leaders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quered many lands as leader of Ro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rdered by the Senate because he was becoming to much of a dictat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atest leader of Ro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ed the empi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period called Pax Romana (Roman Peac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Rome: Religion and Achievements 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theist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gods taken from the Greeks just rena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ion of numerical syst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queducts (plumbing system that brought water to cities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Rome:  Fall of the Empire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as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econom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harves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ire too big and not enough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Practice Questions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ancient civilization of Mesopotamia and the Roman Republic an important feature of life was the creation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ten law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and political equa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otheistic relig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icultural commu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Prep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thenian citizen does not neglect the state because he takes care of his own household… each man values the administration and participates in government duties”---Which type of government does this quote suggest Athenians val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istocra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cra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cra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Prep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ype of government did the military polis of Sparta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arch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igarch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ran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ctatorsh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Ancient Greece--Geography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land peninsula as well as about 2,000 small isla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mountain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 travel and trade very import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ittle fertile l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343400" y="3581280"/>
            <a:ext cx="411480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Ancient Greece--Religion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thei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gods (Zeus, Hera, Athena, Aphrodite, Apollo, Poseidon, Had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66294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Ancient Greece: Governmen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y States called Pol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ir own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arch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ranny (like dictatorship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igarchy (powerful few in charg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cra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Ancient Greece:  Sparta vs. Athens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he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cra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ess on educ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t and scie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rt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ig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ety based on milita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ected the Phalanx techniqu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4480" y="-1360440"/>
            <a:ext cx="32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Ancient Greece- Contributions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al 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arter ---Comedy and Dr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osophers --Plato and Socr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Ancient Greece:  Alexander the Great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Macedo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all of Greece to create a Greek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quered many lands and blended 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Rome:  Geography  and Government  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ian penins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ntain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 travel and trade very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of Ro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ublic --elected directly by peop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w codes called the Twelve T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branches (inspired USA lat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Rome: Social Breakdown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althy landown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ch power due to wealth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b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farmers, artisans and merchan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ity of the popul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20:18:41Z</dcterms:created>
  <dc:creator>NYCDOE</dc:creator>
  <dc:description/>
  <dc:language>en-US</dc:language>
  <cp:lastModifiedBy>NYCDOE</cp:lastModifiedBy>
  <dcterms:modified xsi:type="dcterms:W3CDTF">2009-05-18T19:41:30Z</dcterms:modified>
  <cp:revision>3</cp:revision>
  <dc:subject/>
  <dc:title>FQ:  What are the classical civilizations of Greece and Rome? L86(RR6)</dc:title>
</cp:coreProperties>
</file>